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0EE8-C5DE-4603-96AA-B6ECE65AD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9E51-F039-41AC-B251-6A9AF81A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2895-C7A8-457E-A39A-B4DB5B7BC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6CA1-47B1-40F9-B784-5EF16F688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157D-371A-4C3E-BF11-ED61C39F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3049-0221-435B-B07A-8D61D56B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C377-4E21-4F3D-AB87-DFEA124A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B96E-6F54-4A07-8640-7BA40C92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66C6-3CA1-47AB-B2AE-C8B99420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718F-5625-4B36-9A21-93F84B5D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43CD-A656-4375-A571-B257A44A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DBB0-59A6-4B7B-83CD-5FB733CE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9EB4-1DDC-447A-AF19-1D643EE161F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A ready reference feed dataset for the Ethiopian Livestock Feed Project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1907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dugna Tole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0" y="60768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thiopian Livestock Feed Project Synthesis workshop, Addis Ababa, 28-29 May 20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database provides better organized and more refined information on nutritive value of fee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n be enriched and updated from existing literature and as new information is generat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ice information shows price trends and variability 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urrent price information must be obtained for use in ration formul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000"/>
                </a:solidFill>
                <a:latin typeface="Calibri"/>
              </a:rPr>
              <a:t>Importance of feed database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Provides information 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ypes of feed resourc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Nutritive value of the feed resourc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ndicative price of the feed resources (price trends and variability)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ndispensable inputs for ration formulatio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Livestock production in developing countries (Realities in the past and recent past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ominated by subsistence oriented smallholder livestock production syst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inly depend on feed produced or available on the far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ims at making optimal use of available feed resources rather than maximizing productiv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tion formulation (balancing rations with requirements) has not been a major concer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1828800" y="380880"/>
            <a:ext cx="419112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urrent Scenar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685800" y="1981080"/>
            <a:ext cx="2590920" cy="642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allholder livestock prod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533520" y="3429000"/>
            <a:ext cx="2286000" cy="642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ndless livestock prod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Box 11"/>
          <p:cNvSpPr/>
          <p:nvPr/>
        </p:nvSpPr>
        <p:spPr>
          <a:xfrm>
            <a:off x="4572000" y="1981080"/>
            <a:ext cx="3733920" cy="642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erging commercial/market oriented livestock  prod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Box 14"/>
          <p:cNvSpPr/>
          <p:nvPr/>
        </p:nvSpPr>
        <p:spPr>
          <a:xfrm>
            <a:off x="533520" y="4800600"/>
            <a:ext cx="2438280" cy="642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rban &amp; peri-urban livestock prod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Box 17"/>
          <p:cNvSpPr/>
          <p:nvPr/>
        </p:nvSpPr>
        <p:spPr>
          <a:xfrm>
            <a:off x="3581280" y="3429000"/>
            <a:ext cx="1676520" cy="916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ndless rural livestock prod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Box 20"/>
          <p:cNvSpPr/>
          <p:nvPr/>
        </p:nvSpPr>
        <p:spPr>
          <a:xfrm>
            <a:off x="6095880" y="3352680"/>
            <a:ext cx="3048120" cy="1739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mited /no feed produced or available on the fa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ed dependence on purchased f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im at increasing production/produc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Box 34"/>
          <p:cNvSpPr/>
          <p:nvPr/>
        </p:nvSpPr>
        <p:spPr>
          <a:xfrm>
            <a:off x="4419720" y="5638680"/>
            <a:ext cx="4724280" cy="1191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tion on feed quality and pr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making decision to purchase feed ingredi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formulating balanced di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Straight Connector 42"/>
          <p:cNvSpPr/>
          <p:nvPr/>
        </p:nvSpPr>
        <p:spPr>
          <a:xfrm flipH="1">
            <a:off x="2133360" y="1142280"/>
            <a:ext cx="1066680" cy="7621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Straight Connector 45"/>
          <p:cNvSpPr/>
          <p:nvPr/>
        </p:nvSpPr>
        <p:spPr>
          <a:xfrm>
            <a:off x="4724280" y="1066680"/>
            <a:ext cx="1600200" cy="838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Down Arrow 75"/>
          <p:cNvSpPr/>
          <p:nvPr/>
        </p:nvSpPr>
        <p:spPr>
          <a:xfrm>
            <a:off x="1752480" y="2743200"/>
            <a:ext cx="46080" cy="53352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Down Arrow 76"/>
          <p:cNvSpPr/>
          <p:nvPr/>
        </p:nvSpPr>
        <p:spPr>
          <a:xfrm>
            <a:off x="1600200" y="4191120"/>
            <a:ext cx="152280" cy="53316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ight Arrow 77"/>
          <p:cNvSpPr/>
          <p:nvPr/>
        </p:nvSpPr>
        <p:spPr>
          <a:xfrm flipV="1">
            <a:off x="2971800" y="3855960"/>
            <a:ext cx="533520" cy="46080"/>
          </a:xfrm>
          <a:prstGeom prst="rightArrow">
            <a:avLst>
              <a:gd name="adj1" fmla="val 50000"/>
              <a:gd name="adj2" fmla="val 49957"/>
            </a:avLst>
          </a:pr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ight Arrow 78"/>
          <p:cNvSpPr/>
          <p:nvPr/>
        </p:nvSpPr>
        <p:spPr>
          <a:xfrm>
            <a:off x="5257800" y="3886200"/>
            <a:ext cx="762120" cy="76320"/>
          </a:xfrm>
          <a:prstGeom prst="rightArrow">
            <a:avLst>
              <a:gd name="adj1" fmla="val 50000"/>
              <a:gd name="adj2" fmla="val 49929"/>
            </a:avLst>
          </a:pr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Down Arrow 80"/>
          <p:cNvSpPr/>
          <p:nvPr/>
        </p:nvSpPr>
        <p:spPr>
          <a:xfrm flipH="1">
            <a:off x="7467480" y="2743200"/>
            <a:ext cx="46080" cy="53352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Down Arrow 81"/>
          <p:cNvSpPr/>
          <p:nvPr/>
        </p:nvSpPr>
        <p:spPr>
          <a:xfrm>
            <a:off x="7620120" y="5257800"/>
            <a:ext cx="46080" cy="304920"/>
          </a:xfrm>
          <a:prstGeom prst="downArrow">
            <a:avLst>
              <a:gd name="adj1" fmla="val 50000"/>
              <a:gd name="adj2" fmla="val 49966"/>
            </a:avLst>
          </a:pr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4" name="Straight Arrow Connector 86"/>
          <p:cNvCxnSpPr>
            <a:stCxn id="52" idx="3"/>
          </p:cNvCxnSpPr>
          <p:nvPr/>
        </p:nvCxnSpPr>
        <p:spPr>
          <a:xfrm flipV="1">
            <a:off x="2971440" y="4494960"/>
            <a:ext cx="3048840" cy="62964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1"/>
          <p:cNvSpPr/>
          <p:nvPr/>
        </p:nvSpPr>
        <p:spPr>
          <a:xfrm>
            <a:off x="3429000" y="2133720"/>
            <a:ext cx="3200400" cy="28954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Pre-requisites for ration balanc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ounded Rectangle 3"/>
          <p:cNvSpPr/>
          <p:nvPr/>
        </p:nvSpPr>
        <p:spPr>
          <a:xfrm>
            <a:off x="4267080" y="0"/>
            <a:ext cx="2895840" cy="15238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utrient requirement of anim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ounded Rectangle 4"/>
          <p:cNvSpPr/>
          <p:nvPr/>
        </p:nvSpPr>
        <p:spPr>
          <a:xfrm>
            <a:off x="0" y="3657600"/>
            <a:ext cx="2819520" cy="2438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utrient content of f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ounded Rectangle 5"/>
          <p:cNvSpPr/>
          <p:nvPr/>
        </p:nvSpPr>
        <p:spPr>
          <a:xfrm>
            <a:off x="6781680" y="4648320"/>
            <a:ext cx="2362320" cy="22096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ice of f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9" name="Straight Arrow Connector 7"/>
          <p:cNvCxnSpPr/>
          <p:nvPr/>
        </p:nvCxnSpPr>
        <p:spPr>
          <a:xfrm flipV="1">
            <a:off x="2895120" y="4190400"/>
            <a:ext cx="686520" cy="5338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70" name="Straight Arrow Connector 9"/>
          <p:cNvCxnSpPr/>
          <p:nvPr/>
        </p:nvCxnSpPr>
        <p:spPr>
          <a:xfrm flipH="1">
            <a:off x="5409360" y="1523520"/>
            <a:ext cx="305640" cy="6865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71" name="Straight Arrow Connector 11"/>
          <p:cNvCxnSpPr/>
          <p:nvPr/>
        </p:nvCxnSpPr>
        <p:spPr>
          <a:xfrm flipH="1" flipV="1">
            <a:off x="6095520" y="4800240"/>
            <a:ext cx="610560" cy="53424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Efforts made so far to avail information on nutritive value of feed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Institutions engag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174400"/>
            <a:ext cx="403848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IA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wo institutional publications on nutritive value of Ethiopian feed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LRI and Collaborator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SA Feed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thiopian feed resourc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PS-LM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nual on feed resources and feeding managem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pported database developed by ILR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CDI/VOCA – FEED Projec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eed databas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Limita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imited  number and types of feed s cover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Little information on feeds resources of  interest for commercial produc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adequate description of feed  attributes affecting qual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imited number of parameter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20:37:07Z</dcterms:created>
  <dc:creator>toshiba</dc:creator>
  <dc:description/>
  <dc:language>en-US</dc:language>
  <cp:lastModifiedBy>PBallantyne</cp:lastModifiedBy>
  <dcterms:modified xsi:type="dcterms:W3CDTF">2012-05-29T08:07:06Z</dcterms:modified>
  <cp:revision>30</cp:revision>
  <dc:subject/>
  <dc:title>Feed Database Compilation</dc:title>
</cp:coreProperties>
</file>